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55925"/>
        <c:axId val="98365441"/>
      </c:barChart>
      <c:catAx>
        <c:axId val="764559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65441"/>
        <c:crosses val="autoZero"/>
        <c:auto val="1"/>
        <c:lblAlgn val="ctr"/>
        <c:lblOffset val="100"/>
        <c:noMultiLvlLbl val="0"/>
      </c:catAx>
      <c:valAx>
        <c:axId val="983654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559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0D21-01EB-44B8-BDC5-DDEA00D47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0BD-125F-4A32-B73D-FC311B8F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EB90-ADA6-4822-AC7A-2BA67C94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4442-56BF-4A9B-9DB7-E811990C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0232-294C-4DCF-8DC1-B6CCB413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CC9F-A77B-4474-BA2A-E789CC4D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F28-768C-41B6-8E36-31921AE8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44F-9B89-42B4-84A5-C8DB8D1B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41E-D9CC-430E-8BAE-1362DF4D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99BA-B7C9-4AF6-A314-E1015216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0E5-B6C8-4626-B1CD-1A830406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FFF7-8F5D-4D4C-81B6-4B0F2987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BBE32-54AA-4F26-8941-4F05095DFE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