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574503"/>
        <c:axId val="25215151"/>
      </c:barChart>
      <c:catAx>
        <c:axId val="215745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215151"/>
        <c:crosses val="autoZero"/>
        <c:auto val="1"/>
        <c:lblAlgn val="ctr"/>
        <c:lblOffset val="100"/>
        <c:noMultiLvlLbl val="0"/>
      </c:catAx>
      <c:valAx>
        <c:axId val="252151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5745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CAEC-7FC5-4A17-B258-6560B8442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D353-C39D-4027-AE61-AE5E24A87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7ACC-6C2D-494D-89D4-DA4B647DE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452E-0A9C-410A-87B5-036394FBA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FBA8-4A7C-4646-AEE1-E8EA90BBF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2005-6D31-4337-9DC0-A5D01DA66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A2C9-4F90-4AD2-8757-F19EDA1F0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F4E2-92F9-41A0-9343-9E1A05BB7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FBA5-C789-4B2B-B362-AD7D5983C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A135-8E35-468C-91F2-A4E9B35C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6D30-27A6-457B-A6A3-DDCA271D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7564-AB21-4B44-9CBC-F4649B32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2888E9-0D40-4725-9386-ECEE772753F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