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64700"/>
        <c:axId val="92846604"/>
      </c:barChart>
      <c:catAx>
        <c:axId val="1464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46604"/>
        <c:crosses val="autoZero"/>
        <c:auto val="1"/>
        <c:lblAlgn val="ctr"/>
        <c:lblOffset val="100"/>
        <c:noMultiLvlLbl val="0"/>
      </c:catAx>
      <c:valAx>
        <c:axId val="928466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4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39FB-D2D8-49E0-959B-2460D51E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89E8-B162-4CF1-A97C-908C46E9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0B0B-BCE3-4E5D-9896-EDD83E92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BB1A-0045-48A9-BD9C-94531760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26E4-E3C0-4DFD-BA16-C384CABE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DFA9-0467-4431-AD20-C0C875BB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6CA0-5049-4098-824F-EAB54D72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173-B2F0-462E-BB0C-CC19EB66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410-18A2-4427-9A9B-1F97B7F2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0928-85B1-4A60-ABBA-82D891F6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0DBA-69C0-4D06-A8E4-76334F0E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AD43-0CBA-4598-8486-074541C4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281A2-2C96-41C9-84C1-A50D8933BF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