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52156"/>
        <c:axId val="36151446"/>
      </c:barChart>
      <c:catAx>
        <c:axId val="46152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51446"/>
        <c:crosses val="autoZero"/>
        <c:auto val="1"/>
        <c:lblAlgn val="ctr"/>
        <c:lblOffset val="100"/>
        <c:noMultiLvlLbl val="0"/>
      </c:catAx>
      <c:valAx>
        <c:axId val="36151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52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42C-9C53-4D2B-9EB1-D7E39342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23F-F040-4A46-B81B-7186AB26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843-490D-4387-A14B-33D3ADB8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EC8-9B14-468E-B38D-622C9440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49C-0C97-44D5-AA76-23F6E465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B7D-5BC3-49DD-93AA-2BBDD105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7AA-326E-4E4E-AB0D-15F074FC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F9E-4D33-4987-B7A6-6E4D6EAA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815-966A-4930-9308-0FA3B287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327-78C1-4FB0-B859-50DB2BBF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78E-3D6A-4C69-A37F-1F0B95FB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82A-8DCF-4B63-A923-8079C830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3D013-C690-4AA8-9AFB-92265BAEF9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