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028086"/>
        <c:axId val="69307094"/>
      </c:barChart>
      <c:catAx>
        <c:axId val="590280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7094"/>
        <c:crosses val="autoZero"/>
        <c:auto val="1"/>
        <c:lblAlgn val="ctr"/>
        <c:lblOffset val="100"/>
        <c:noMultiLvlLbl val="0"/>
      </c:catAx>
      <c:valAx>
        <c:axId val="69307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0280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6937-7C51-43B9-8235-EBA6B537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570-DF5B-4088-B3BB-F34D9D38B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053-7C94-49B7-B292-3C5C9DD6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EDB0-EBFA-476B-9E67-CE4C2C79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80D2-A473-4912-93CE-178D2B29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71A9-62C1-4013-A3CD-6731742C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4CC-E533-4911-9FD5-8E618D1C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085-A853-4491-880D-B3B4961C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9E7-7593-4683-BABE-A685A32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BB68-1C41-471E-B607-1C0FCC7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E9AC-F7EE-47BF-BC0A-1C05EED4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BA6-3143-4A2F-A40E-38873217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D64FB-E820-4FC7-A537-52C18AE649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