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719099"/>
        <c:axId val="98549472"/>
      </c:barChart>
      <c:catAx>
        <c:axId val="567190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549472"/>
        <c:crosses val="autoZero"/>
        <c:auto val="1"/>
        <c:lblAlgn val="ctr"/>
        <c:lblOffset val="100"/>
        <c:noMultiLvlLbl val="0"/>
      </c:catAx>
      <c:valAx>
        <c:axId val="985494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7190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84C2-AFC3-4E9C-829C-2EB2A42D6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2393-0FDB-4DAC-9D85-5E50A44B0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FE83-D2DB-4764-B52D-CD03D810A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038C-47D1-4072-8196-453D13DE1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3668-0E47-46F4-8A4F-D8A6AB947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E6D1-49EF-4268-A3CC-538D9E19A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F079-DFA1-407E-A593-AF0992B02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9D2B-8E38-4FCD-B59E-3F7B7C541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D428-BD54-40C3-9D78-24A8605EA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395A-B33B-4C09-BEA7-98962647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03A8-6405-4D17-94E0-D06F63454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5834-D29D-4403-9358-DF91C855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5CDB7A-9E47-4A96-A05E-AC298FBA50F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