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38674"/>
        <c:axId val="22428411"/>
      </c:barChart>
      <c:catAx>
        <c:axId val="38138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28411"/>
        <c:crosses val="autoZero"/>
        <c:auto val="1"/>
        <c:lblAlgn val="ctr"/>
        <c:lblOffset val="100"/>
        <c:noMultiLvlLbl val="0"/>
      </c:catAx>
      <c:valAx>
        <c:axId val="22428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38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6C5-5BC0-4F74-AE11-1A405E02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571-509C-4EC1-BC38-E4B92C69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DF2-D321-4C3E-B77A-E9FD866A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C37-5A29-443F-A54A-2F238298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CEA-0F32-4043-B03A-E3D4EAF6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9E2-E5D3-40C4-9560-A2DF5501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959-0EC4-4492-A8E2-253DD649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2CF-6BCF-44C4-A73B-81121267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4AF-5064-447C-9375-4AE1DF34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57A-4C98-4735-99D8-CF3659D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0AC-C7E5-428C-BA16-420816CD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B97-86B9-4DDF-9D57-E076478F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A23A3-2B18-479F-BCB5-12B393DA27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