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814017"/>
        <c:axId val="27126851"/>
      </c:barChart>
      <c:catAx>
        <c:axId val="94814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26851"/>
        <c:crosses val="autoZero"/>
        <c:auto val="1"/>
        <c:lblAlgn val="ctr"/>
        <c:lblOffset val="100"/>
        <c:noMultiLvlLbl val="0"/>
      </c:catAx>
      <c:valAx>
        <c:axId val="27126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4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841-26F0-4D3B-B63E-909796FC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2A55-32B9-49CE-89C6-8FFA068E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EC3-7E7E-4B90-9D61-D2268831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041-13D8-483C-B0C8-D057CCF7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BCCA-AC51-48AC-9064-DAA55690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D75B-B337-4BEA-9D03-CD9C4CF7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F2D-967C-4F13-BC9D-F260EF20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00B-7372-4E35-9832-082DF181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ACE-3789-402B-8992-927B6138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703-6FFA-4CBB-841A-FF87123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F217-1645-457D-AFA8-196384E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D86-1519-4442-A97E-931A165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2F681-6EB4-402F-9E4B-484CF8D4D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