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726397"/>
        <c:axId val="94621194"/>
      </c:barChart>
      <c:catAx>
        <c:axId val="137263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621194"/>
        <c:crosses val="autoZero"/>
        <c:auto val="1"/>
        <c:lblAlgn val="ctr"/>
        <c:lblOffset val="100"/>
        <c:noMultiLvlLbl val="0"/>
      </c:catAx>
      <c:valAx>
        <c:axId val="94621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263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8831-A79B-4E22-A7F1-8FCB72600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9903-79EF-46E7-8C6F-A8799A2FF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EFEB-4A65-4471-8629-32C44A5D9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4B2A-9EC6-4A9F-B0E3-C7C06ACC7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12D0-5AAE-43B0-9728-6DBF8AD62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9811-8A7B-4493-9893-D56195A8B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9041D-5E80-4614-A55B-4DD611AFE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3812-A68F-4AA5-ABC5-DCA22BD0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1C83-6541-4145-870B-C020FD3E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9E73-51B6-4A5E-A7A7-42B32213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9CC9-347F-4B0F-B51D-23659BAF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B36B-0DDB-40EE-A33A-532B129D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9FDE5-286D-43D8-832C-AB13711961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