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86055"/>
        <c:axId val="63908659"/>
      </c:barChart>
      <c:catAx>
        <c:axId val="117860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08659"/>
        <c:crosses val="autoZero"/>
        <c:auto val="1"/>
        <c:lblAlgn val="ctr"/>
        <c:lblOffset val="100"/>
        <c:noMultiLvlLbl val="0"/>
      </c:catAx>
      <c:valAx>
        <c:axId val="639086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860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CCD5-CDB1-4674-AE43-FA03C60D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E91-3EE7-4C78-B23E-2295EA19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CE3-8914-42C6-B24E-57863C6E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A1E-481B-444C-80F3-CC27079C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9C90-CFF6-4974-ABC3-1D09F054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943C-10D7-4798-942C-AE6F7A4A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424-51FF-47D7-9C03-6241BBC1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A30C-26B0-4394-926B-9FEDC94A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C3B2-1C7B-440E-8F67-5D73A3BA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CEE9-53DD-4893-A4C9-413C73D1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9C3-4672-4FCB-B0CA-E151E9BC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1112-8371-4782-8D0B-1CBAFFD1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CC3DE-98FE-4E6F-87E4-C8CF788B50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