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74179"/>
        <c:axId val="6392065"/>
      </c:barChart>
      <c:catAx>
        <c:axId val="42074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2065"/>
        <c:crosses val="autoZero"/>
        <c:auto val="1"/>
        <c:lblAlgn val="ctr"/>
        <c:lblOffset val="100"/>
        <c:noMultiLvlLbl val="0"/>
      </c:catAx>
      <c:valAx>
        <c:axId val="6392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74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7C7-850C-464C-88B2-D2448A93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209-CA95-499A-BAE7-539976E4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1BF-BF04-4E91-ABD8-AEC9F641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FB6-DC34-417A-9C47-38342C2F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346-D6DC-438B-8D5C-CA43C698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E09-A918-4AAA-86F3-72FFA05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BC5-C19A-4425-8CD8-C05BC9D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370-9902-4FA2-B1F2-4036DE9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013-4508-4F98-8A7F-E5F44CA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66C-CB08-4B65-B244-BFF9A83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776-38AD-4E7A-B43C-F60F696F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A07-A30F-4DF0-BFCD-A189C45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8C072-2915-4B7F-8D3E-75589575D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