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36631"/>
        <c:axId val="53816422"/>
      </c:barChart>
      <c:catAx>
        <c:axId val="15136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16422"/>
        <c:crosses val="autoZero"/>
        <c:auto val="1"/>
        <c:lblAlgn val="ctr"/>
        <c:lblOffset val="100"/>
        <c:noMultiLvlLbl val="0"/>
      </c:catAx>
      <c:valAx>
        <c:axId val="53816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36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F54-3943-4A08-B2EB-031906B4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52ED-1B67-40AF-8014-FE9549A9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D193-47D6-4A47-B5E4-1803142A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CE8-A36E-4EAF-813F-DC5265FE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853-280B-4CAF-A293-89A7B111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F4A-2F3B-4C0E-8DA8-6B9D8A28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A057-BBB4-48A6-9E52-76B676D3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340D-DEC3-4512-9616-346DF185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06A-318E-48B6-87E4-1A6410E1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BF0-2816-425E-B94F-2C2491AB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8D8-4623-41C1-9A67-EF307756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DCB-95C6-4B5A-9A5E-1F98F85A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C604C-E98D-45CF-A8A4-4BBE572DCC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