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64020"/>
        <c:axId val="40230259"/>
      </c:barChart>
      <c:catAx>
        <c:axId val="53864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30259"/>
        <c:crosses val="autoZero"/>
        <c:auto val="1"/>
        <c:lblAlgn val="ctr"/>
        <c:lblOffset val="100"/>
        <c:noMultiLvlLbl val="0"/>
      </c:catAx>
      <c:valAx>
        <c:axId val="40230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4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661-2A5C-45AA-8433-60D5219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1B8-3A51-468B-ADB3-AF06B57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E06-68B7-4E0D-A301-80DA323C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53F-3AF8-40BF-8376-70ED5A18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F5A-F082-4D34-9648-0CF3388D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F6F-05ED-40CB-80E9-EEC3BB6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A98-14E8-4FC9-80C4-EFBC3E1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8C9-508F-4D88-8C7C-5417FAB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A54-9844-449D-88DD-51555F7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48D-771F-4C9C-8C83-605BD65E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68C-22CB-41EE-9E76-A212339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54A-AEF9-4F8D-B437-F01FF30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DE21-C5C8-41A4-AE79-8C0D25EAC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