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75390"/>
        <c:axId val="10120903"/>
      </c:barChart>
      <c:catAx>
        <c:axId val="82775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20903"/>
        <c:crosses val="autoZero"/>
        <c:auto val="1"/>
        <c:lblAlgn val="ctr"/>
        <c:lblOffset val="100"/>
        <c:noMultiLvlLbl val="0"/>
      </c:catAx>
      <c:valAx>
        <c:axId val="10120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75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18B-C692-448C-9BE4-034B3C42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000-4359-433A-A583-E02E3A95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C2D-CAA5-47CD-A4CC-2765BF6E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283-B7C9-4027-9FBE-C3D70CE1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B5D-30D6-4772-AC1E-9DDEC9F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492-54A5-4C85-B674-F941852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9CA-3D48-4E4B-A527-A6D851D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19D-8F5B-45E3-87C3-F842177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135-0963-4DF3-A724-B2BB1EF6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8E1-ECB7-4B33-8482-D334B8F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599-0D26-4F34-9332-BD420D86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0DA-118B-4B5E-86A4-CAA0A82E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4FDBA-8AEA-4A77-8F88-A0F2A56CE7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