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55961"/>
        <c:axId val="28358667"/>
      </c:barChart>
      <c:catAx>
        <c:axId val="982559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58667"/>
        <c:crosses val="autoZero"/>
        <c:auto val="1"/>
        <c:lblAlgn val="ctr"/>
        <c:lblOffset val="100"/>
        <c:noMultiLvlLbl val="0"/>
      </c:catAx>
      <c:valAx>
        <c:axId val="28358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559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9E7-DE44-4586-BA0B-43DF1F65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0C8-1E23-405E-A8B4-D95F051A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50CC-E9A0-4005-9919-73B096BB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57AD-ECCF-471F-AAB4-200C4FBC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08E-D2A8-4C25-94E4-2CDEA727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710-8B14-4F6C-B475-F68A9461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B877-2745-4127-8D36-3BFDCAFE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301-7C0F-47E1-AF09-2EE6F451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35DE-E25E-47F5-AA97-C0F01C57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30A-537B-4A93-ADFE-CEBDA8BE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F279-41C6-463F-B012-0C41F3A6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D12F-3486-40BA-BFB7-A9191D01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17FB3-6CA2-4FF7-9E68-875A097F92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