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66212"/>
        <c:axId val="50641976"/>
      </c:barChart>
      <c:catAx>
        <c:axId val="64966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41976"/>
        <c:crosses val="autoZero"/>
        <c:auto val="1"/>
        <c:lblAlgn val="ctr"/>
        <c:lblOffset val="100"/>
        <c:noMultiLvlLbl val="0"/>
      </c:catAx>
      <c:valAx>
        <c:axId val="50641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66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EAF-E2CC-4994-A867-334B0503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3E1-3D38-4938-8B7E-7FDF6F9D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0D9-4D9E-4343-A112-7B80A536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EFA-F585-4EF0-B7B1-84153CF4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E1F-D4BC-4D38-8F6E-52713F48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EAE-CA07-4A43-AF78-33122A58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244-6A82-419A-814B-815FB64E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B7B-E3DD-46B9-99C9-BC3191EF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88B-4087-4904-8A9B-76BDBC5D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C5E-57BB-41D6-BDD3-8571FCFB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209-28B3-4543-8C05-DE876231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AEE-9671-45E0-AA59-B7C17841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BCE15-1D99-4865-A2CF-BD6420CF04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