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04667"/>
        <c:axId val="87412163"/>
      </c:barChart>
      <c:catAx>
        <c:axId val="55704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12163"/>
        <c:crosses val="autoZero"/>
        <c:auto val="1"/>
        <c:lblAlgn val="ctr"/>
        <c:lblOffset val="100"/>
        <c:noMultiLvlLbl val="0"/>
      </c:catAx>
      <c:valAx>
        <c:axId val="87412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04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4C2-4F0B-4461-98A0-956B139E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EAD-6080-463D-8909-69F54617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944-21FC-4624-AB6E-C4FE3497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546-2B40-43AB-8D79-60A7C383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345-3D68-48C2-BC86-0403CADE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85F-5FE2-4C7D-ADA5-4CF98FA2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9C2-66FC-4F39-A394-1ADAEB55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BF2-7021-4E81-9EDC-460E9B26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8E4-B22F-4551-BF38-AFFA8D94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B19-B212-40F3-906C-BBC7A269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CD0-E270-4FD3-B8D0-68B7063D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B9A-CC38-4D85-8834-0DE6A71F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CF565-6532-4E04-8E56-145C958417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