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71570"/>
        <c:axId val="35636834"/>
      </c:barChart>
      <c:catAx>
        <c:axId val="82471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36834"/>
        <c:crosses val="autoZero"/>
        <c:auto val="1"/>
        <c:lblAlgn val="ctr"/>
        <c:lblOffset val="100"/>
        <c:noMultiLvlLbl val="0"/>
      </c:catAx>
      <c:valAx>
        <c:axId val="35636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71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2F36-291C-4608-BDC3-7E821FC6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9A56-DA8E-4E82-8F43-28D8EFE4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C7F-976E-4F99-A5B1-EFDE6D20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31C-99AE-454B-87B2-4BC707A2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8428-3CD1-4F80-A183-8096EB0F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8F93-D820-42F0-94E1-EFFCC5C1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7339-F443-4B65-8ACC-2125FFBC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1BB-AF0A-4181-B73F-D9820B43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6F62-827F-4668-81A8-27CE1713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E40-F94E-4517-8BE1-68689B24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6F7-73B4-42B9-83E0-F4D071EB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30C-1F69-4096-87CC-2EDBAB0C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C607D-36F6-4F32-B988-8547A75CC8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