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90088"/>
        <c:axId val="23663429"/>
      </c:barChart>
      <c:catAx>
        <c:axId val="67890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63429"/>
        <c:crosses val="autoZero"/>
        <c:auto val="1"/>
        <c:lblAlgn val="ctr"/>
        <c:lblOffset val="100"/>
        <c:noMultiLvlLbl val="0"/>
      </c:catAx>
      <c:valAx>
        <c:axId val="23663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90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55A-52B6-4F13-A035-4A6DDB31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8AD-5F7B-4D63-B2DF-417C1CB4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3A2-D567-4C86-AE2E-D1F4EA5F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92E-FC13-46B1-A7F6-353BC26E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C03-45B8-45A7-B027-CE4A4B1A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C00-ED65-4592-8247-616B9A4B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FE7-4633-4E71-8CF8-3D862225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FBB-3C04-4980-B77F-C1BEA419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7F2-8154-4B27-9E9E-1E33990A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677-4DD9-49B8-A376-B35F88EF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F9F-5B2A-46AE-912C-2E615D96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AE5-BFDF-4E4D-AA7F-FCDAB0A2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CB53F-3707-4763-BE2C-C73182E23E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