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21738"/>
        <c:axId val="34250909"/>
      </c:barChart>
      <c:catAx>
        <c:axId val="15421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0909"/>
        <c:crosses val="autoZero"/>
        <c:auto val="1"/>
        <c:lblAlgn val="ctr"/>
        <c:lblOffset val="100"/>
        <c:noMultiLvlLbl val="0"/>
      </c:catAx>
      <c:valAx>
        <c:axId val="34250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1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E48-31B6-4D6E-B516-B974DB3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AF7-5717-41C0-B954-5D2ABD1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CE7-FB5B-4DAE-B5AE-43F752C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8F5-57BA-4D55-B9AD-37757CA4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E97-A8EE-493C-B279-2B4CFE65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BD1-7E7A-4875-BEAA-7E95CBEF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FB7-D424-4DD4-83C1-F9A722A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7EE-6069-42FC-B052-8E66DEF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5AC-4390-4967-A3E4-0F5F823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266-C08B-4AAD-83B3-E388884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59C-2EA9-46E7-9FDE-DCDEB49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B9E-1164-4DCE-86A9-58AC982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E34A6-04F2-4F85-8311-6D2B94A89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