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12042"/>
        <c:axId val="69269748"/>
      </c:barChart>
      <c:catAx>
        <c:axId val="39712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69748"/>
        <c:crosses val="autoZero"/>
        <c:auto val="1"/>
        <c:lblAlgn val="ctr"/>
        <c:lblOffset val="100"/>
        <c:noMultiLvlLbl val="0"/>
      </c:catAx>
      <c:valAx>
        <c:axId val="69269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12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D52-DC3B-413F-8860-BB6F9A22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4AC-3F61-426F-816D-0EFAB1CA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38E-276B-46AF-8369-631383D0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5A5-A396-45FD-ADAC-FAE28400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7B9-8F46-4C92-A23D-7CE9CF75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8F6-043B-4EEB-B089-A290DCDC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C65-699D-4E4D-B9B9-F1F0AF2E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DF5-2F90-4971-9713-73297580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87C-EDE0-408A-B7EC-70CD3B9A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A08-813D-42F9-8DEE-4EC8AD83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B87-0DAE-48DD-96B1-8904083A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9DB-57C9-4AB2-99AF-E436412A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BFF87-4DD3-49F3-A39E-020EDDAF1D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