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40756"/>
        <c:axId val="82643401"/>
      </c:barChart>
      <c:catAx>
        <c:axId val="84640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43401"/>
        <c:crosses val="autoZero"/>
        <c:auto val="1"/>
        <c:lblAlgn val="ctr"/>
        <c:lblOffset val="100"/>
        <c:noMultiLvlLbl val="0"/>
      </c:catAx>
      <c:valAx>
        <c:axId val="82643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40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62D-D475-4532-AB54-6996A379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C71-CC8D-4644-933A-0D705CE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96D-966D-4C51-B550-D0A60B6F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C13-E9C8-49B6-93A0-91515016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BD3-5886-4AF4-A5AD-ED2D3B3C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C29-009D-49CA-A9F1-C239CEE5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3B6-9A52-4657-9022-90BA1348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073-DC0A-46C0-8C82-15E14EB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71D-9342-4EF5-A63D-EE57738F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468-7408-44EB-8394-029C46B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A3E-AE66-4836-BEFE-049AE77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E58-FA40-453B-88A6-2471ED17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D8E4A-685A-44DB-A47F-2CA0F2866B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