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78960"/>
        <c:axId val="65928466"/>
      </c:barChart>
      <c:catAx>
        <c:axId val="68378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28466"/>
        <c:crosses val="autoZero"/>
        <c:auto val="1"/>
        <c:lblAlgn val="ctr"/>
        <c:lblOffset val="100"/>
        <c:noMultiLvlLbl val="0"/>
      </c:catAx>
      <c:valAx>
        <c:axId val="65928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78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373-CEF7-40BB-8104-84E7C072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AD7-01D6-4A22-97F3-1D4B80DD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CAC-6F25-4758-9BF8-8AC7B6B1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2EB-5571-4B69-BBA3-34A543E1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BAF-F35D-4D62-9065-73881005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9E5-6FC5-4A5D-B5D1-5D05C872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EA2-031A-4AE7-AC8D-90AEA62B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FE7-8F74-4E27-ACC1-74495F63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313-F247-4F31-9EB4-57F4E9AA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93B-831E-454D-9E26-70BC62D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B9D-4247-4E64-928F-FACE7049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2C0-9B6B-43D7-90B8-D97E66C4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0F74-5796-440C-BF57-DDBE58900B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