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79365"/>
        <c:axId val="17151465"/>
      </c:barChart>
      <c:catAx>
        <c:axId val="32179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51465"/>
        <c:crosses val="autoZero"/>
        <c:auto val="1"/>
        <c:lblAlgn val="ctr"/>
        <c:lblOffset val="100"/>
        <c:noMultiLvlLbl val="0"/>
      </c:catAx>
      <c:valAx>
        <c:axId val="17151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79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FAB-1CC8-4319-AD8B-255F070E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285-9648-4525-8F9D-3062B8A7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F3C-858A-4BFB-B2AC-FE691AA6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7D3-124F-481F-B0BA-DB9F3844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72B-8F8E-40D1-A801-424F5B9A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5AF-1AFB-4465-9780-138CF14E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05B-6E13-4AEB-9679-E9224A2D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9DD-74E4-4BCD-A210-A2CAFCDB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9A5-593A-4EC6-A08C-79A4780F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009-9610-4D48-BB08-8A6E4EA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AA7-EAD4-490F-89CE-274A2CD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A87-A2BA-4DBD-89CD-3C47F0A9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7A989-C5FF-4275-AF7C-A4B25F3C63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