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66491"/>
        <c:axId val="88780679"/>
      </c:barChart>
      <c:catAx>
        <c:axId val="51664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80679"/>
        <c:crosses val="autoZero"/>
        <c:auto val="1"/>
        <c:lblAlgn val="ctr"/>
        <c:lblOffset val="100"/>
        <c:noMultiLvlLbl val="0"/>
      </c:catAx>
      <c:valAx>
        <c:axId val="88780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64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C73A-877C-4A60-87A1-150F053D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FECA-51D2-42F8-8C93-99BFAF86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0E42-BCC9-4065-99A0-00887FED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978-D774-4E1C-8039-3168E2DB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6EFE-3C82-4B53-9911-DEDD6776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65C-7794-4657-ABEC-AAF59F08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280B-543A-4099-BDC9-9A950607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0758-294A-46ED-96D5-F61E82D8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0F4B-A051-472E-9546-ED508039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307B-7C31-4D07-929A-6BA9BAD8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D294-F26C-4ED8-B81D-46D624BF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1643-CDEC-4350-A46B-B5402D0B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5A78E-41EE-46F5-A7C8-6656AA67E2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