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77126"/>
        <c:axId val="29065185"/>
      </c:barChart>
      <c:catAx>
        <c:axId val="84077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5185"/>
        <c:crosses val="autoZero"/>
        <c:auto val="1"/>
        <c:lblAlgn val="ctr"/>
        <c:lblOffset val="100"/>
        <c:noMultiLvlLbl val="0"/>
      </c:catAx>
      <c:valAx>
        <c:axId val="29065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77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FC1-97DE-4B65-BB73-CA003527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EED-9497-4D15-A925-C24C66B3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FD3-2D11-46F1-8A26-D63FC2E6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2D9-21C8-4F7C-9F04-393DFC0B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540-A9BB-4D72-A279-57785A7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B8B-EA7D-4232-9960-F10AE57A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018-88A9-4606-B626-E96FF4B0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C58-429C-44E0-84CA-2F242521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ACC-A147-4875-8332-36E43D74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F32-80A3-4BB5-9345-BA12C5EC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50D-8439-4969-8A74-1C6A9BDE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4A7-B036-405D-ADC6-5196966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0E5DE-48CA-47AA-A7BB-E70CB24CF8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