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5377"/>
        <c:axId val="21520941"/>
      </c:barChart>
      <c:catAx>
        <c:axId val="4565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0941"/>
        <c:crosses val="autoZero"/>
        <c:auto val="1"/>
        <c:lblAlgn val="ctr"/>
        <c:lblOffset val="100"/>
        <c:noMultiLvlLbl val="0"/>
      </c:catAx>
      <c:valAx>
        <c:axId val="21520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5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ACF-70A2-46D3-8502-E59ED031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FFC-CFA0-42D8-9231-357CC961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952-F04B-4304-824C-00CB2223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7B6-FDC1-4630-8807-2E863A8E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F88-9448-401E-9388-ACD3945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792-6021-4B4E-B6E3-1E4CC4EA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5E4-F429-4395-996A-7A48F02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BBC-23E2-4C91-9700-D034C89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24F-C01A-475D-933D-5D8C648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0BF-4291-4A7B-ADCC-BFAA9787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6FC-CDD9-4E94-804B-3BE0B7D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C9D-1632-4D8C-9773-8BFC325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3995F-27DF-4A3D-BAEE-55AF390FE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