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21544"/>
        <c:axId val="60422822"/>
      </c:barChart>
      <c:catAx>
        <c:axId val="66521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22822"/>
        <c:crosses val="autoZero"/>
        <c:auto val="1"/>
        <c:lblAlgn val="ctr"/>
        <c:lblOffset val="100"/>
        <c:noMultiLvlLbl val="0"/>
      </c:catAx>
      <c:valAx>
        <c:axId val="60422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21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70C-B977-416B-958D-75C95F30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9E0-6BBF-4FBB-9E73-5CEC8590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783-DDA0-4E07-A036-2FDE7611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69D-7521-4485-AF6C-90832EEC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336-29BA-4000-BF8F-0BB9F266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505-36AD-49F7-8274-863C994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3A8-DEC7-479B-8E89-200E7DAA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841-B661-47F1-BC2A-63454F8F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871-384B-4E0C-A7F5-24B5965B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AEE-E5F1-4CA8-947F-E9E1956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CE4-4896-4F05-9A18-4D8B681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79A-EEF5-4366-B755-1B37277E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3262F-539C-427A-995A-03EEC6E7E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