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77686"/>
        <c:axId val="68627991"/>
      </c:barChart>
      <c:catAx>
        <c:axId val="36877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27991"/>
        <c:crosses val="autoZero"/>
        <c:auto val="1"/>
        <c:lblAlgn val="ctr"/>
        <c:lblOffset val="100"/>
        <c:noMultiLvlLbl val="0"/>
      </c:catAx>
      <c:valAx>
        <c:axId val="68627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77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CC3-69EE-433F-8958-F0C92916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239-9183-45C0-8E72-7E99B785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6F3-DB98-41AD-8FF4-46F9569C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C1A-A56F-4BEF-8A47-BAD3B170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D4C-4E2D-4DC0-81D7-97C73126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F2D-2249-4237-BE2A-FEFD8707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49E-9D6D-460C-858E-65B13222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BB9-7965-4017-8A26-D4EFCEFD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F2D-3365-4D95-8618-7DC6A7CA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8E2-DB7F-42A8-A42C-AB76DEB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F18-579C-4A55-94DC-51F28247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5F6-E7CB-4989-8E16-E7722F8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AB0A4-C71B-49F0-8260-9FF087407F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