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191382"/>
        <c:axId val="4470011"/>
      </c:barChart>
      <c:catAx>
        <c:axId val="691913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0011"/>
        <c:crosses val="autoZero"/>
        <c:auto val="1"/>
        <c:lblAlgn val="ctr"/>
        <c:lblOffset val="100"/>
        <c:noMultiLvlLbl val="0"/>
      </c:catAx>
      <c:valAx>
        <c:axId val="44700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913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9A3A-AE9A-470B-A012-8C5D77515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DCDD-11C8-457A-917A-88A03C48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7B0D-9E6B-4EB4-B1E7-4B5A9F2E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F684-4B1D-438A-8F45-9003CC6C7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9E8B-A3AB-4AC0-92F1-2B67A4DA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0C3B-A754-4403-BC9C-9F3067EF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131B-F488-47DF-BE5B-90F26662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E4C9-477C-4609-8C29-09CF89CA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8499-43D5-48D4-976D-DE864297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36A1-F172-47CD-926A-B50A8C45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2D70-CCD7-40E1-8411-82556864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82BA-B1F4-4BBA-B71A-855405A4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26FE0-ADEA-4F76-83B3-C624445B2C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