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8760"/>
        <c:axId val="38431596"/>
      </c:barChart>
      <c:catAx>
        <c:axId val="57487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31596"/>
        <c:crosses val="autoZero"/>
        <c:auto val="1"/>
        <c:lblAlgn val="ctr"/>
        <c:lblOffset val="100"/>
        <c:noMultiLvlLbl val="0"/>
      </c:catAx>
      <c:valAx>
        <c:axId val="38431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87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026-FE19-45F3-83F7-E98FD153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5D12-FF20-4D09-9B51-52ABA3F4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2A8-E32F-445D-81F3-71BFDDFD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06E-5C7A-4F05-AEB3-122B8BF9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8FE0-5A6F-43A0-BD3C-76349DEA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554-1064-4644-8CD6-B021E307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B0F3-06BD-4A3D-8A54-24AA4170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97DE-8990-4CB7-9239-EBAD6F1A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D0E0-651B-4666-B08D-34DACA20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C351-0452-4BA2-BA70-C3BA165F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B40-159F-4156-B9FD-B6D8B986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CDA-67FA-4BC5-A026-803976B9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F4797-9EDB-44DF-906B-ABD119FF58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