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031092"/>
        <c:axId val="17739618"/>
      </c:barChart>
      <c:catAx>
        <c:axId val="430310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739618"/>
        <c:crosses val="autoZero"/>
        <c:auto val="1"/>
        <c:lblAlgn val="ctr"/>
        <c:lblOffset val="100"/>
        <c:noMultiLvlLbl val="0"/>
      </c:catAx>
      <c:valAx>
        <c:axId val="177396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0310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60DD-A21B-464E-B30B-2ADA01F67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80F1-823A-445C-B113-FA9BE93B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3BC8-5485-4755-B59F-4D2A2ED0F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107D-D065-4D91-9D60-A4C194A0A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7006-3C0F-4B0A-BEB6-5A3C238F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0E1E-0428-4AB4-96D2-5F860674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B198-AEC1-4F57-A5AB-E2182EAB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5CE5-BCAE-45AC-B4F9-67B699BD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A2F1-E9AA-4715-AAFD-D6A4471B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A536-F3F2-44E7-81CC-FDC59903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47AD-CFEB-425A-9F29-771201CF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62A6-53CA-4B41-AD26-DF1605EB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54B2AF-B66F-4D16-8C5A-66F15729B3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