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1463"/>
        <c:axId val="31040984"/>
      </c:barChart>
      <c:catAx>
        <c:axId val="4181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40984"/>
        <c:crosses val="autoZero"/>
        <c:auto val="1"/>
        <c:lblAlgn val="ctr"/>
        <c:lblOffset val="100"/>
        <c:noMultiLvlLbl val="0"/>
      </c:catAx>
      <c:valAx>
        <c:axId val="31040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1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EFB-15FF-4A4D-8DB0-B1BBB10B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5E2-6D9D-42A6-A5BB-389B326B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CFD-9B33-45FE-9ED2-89D029AA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993-204D-4218-8C21-4A0F32D9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70B-11CA-465F-80D8-808EEFE0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C8A-CA2C-4DB4-BE75-6EAD2B56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F0D-ED47-44AC-81A7-B77E64B0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61F-CBF2-4047-8065-A5FE02BE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4DB-E57E-42A9-8062-D298BF66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96C-A02D-4E49-AA47-70F64192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144-837F-492A-A75D-42BB7CB5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552-2129-43E3-91D8-E33D6FD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DEA5B-3657-4091-9020-EB9B9D5E0F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