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14104"/>
        <c:axId val="18724698"/>
      </c:barChart>
      <c:catAx>
        <c:axId val="25814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24698"/>
        <c:crosses val="autoZero"/>
        <c:auto val="1"/>
        <c:lblAlgn val="ctr"/>
        <c:lblOffset val="100"/>
        <c:noMultiLvlLbl val="0"/>
      </c:catAx>
      <c:valAx>
        <c:axId val="18724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14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4F3-5CC8-41C8-B9EF-E6B5DF96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AAE-8249-40C0-8E84-20F5FF61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A6C-1AE5-4473-8933-BA833459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316-67AC-4818-B886-1861B854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734-F1D2-4169-AE65-B78F4ACC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B5B-E9D0-475B-BC29-F0EBD76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B1A-7F12-458B-BBD7-70A95E84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4E5-CBA7-48E0-89BD-53C972E7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661-1C0D-437D-9963-9CD3B0FD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EC5-CB97-4337-95F5-04D34C29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F35-84E3-4757-8AFA-3CDA07B2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39A-26ED-43DA-9AE8-8D3F723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4E119-FB8F-42C2-A2F0-3464B2100E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