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54152"/>
        <c:axId val="45296156"/>
      </c:barChart>
      <c:catAx>
        <c:axId val="51754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96156"/>
        <c:crosses val="autoZero"/>
        <c:auto val="1"/>
        <c:lblAlgn val="ctr"/>
        <c:lblOffset val="100"/>
        <c:noMultiLvlLbl val="0"/>
      </c:catAx>
      <c:valAx>
        <c:axId val="45296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54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712-8E98-4AF2-BDE9-5C3D7F03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70F-D146-4B1D-A0A4-3B02297C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C41-E8D5-40D4-976B-E6324D08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B0B-E3E4-42C6-ACE3-47ECEC4F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F53-5976-45DE-856F-53B85457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289-A06D-4E2F-8D86-B6B4DD9A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A72-73C4-434A-9708-B92B613D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1FC-EF57-4E42-ABB2-F0C16CBE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4DB-E6AC-492E-89DA-FC5CB157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1AB-70D3-42B4-91A9-89BDCD22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3B3-32E0-4DE5-B9C6-A3F0F67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E9F-EC96-44B8-9136-34C48BD9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F32AE-8345-49D4-B4F0-74AD71E9BB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