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88021"/>
        <c:axId val="58642243"/>
      </c:barChart>
      <c:catAx>
        <c:axId val="57688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42243"/>
        <c:crosses val="autoZero"/>
        <c:auto val="1"/>
        <c:lblAlgn val="ctr"/>
        <c:lblOffset val="100"/>
        <c:noMultiLvlLbl val="0"/>
      </c:catAx>
      <c:valAx>
        <c:axId val="58642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88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6A2-BB5E-4B11-A112-736110FB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F1C-9D3D-4A07-817D-A70D63A2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683-3EB3-461D-BCAE-1F5F6824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0E3-F801-4AAD-B052-4E835F60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3D1-7D20-43EA-9DF2-F3DF5F1C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422-DD0B-4791-87E0-3C919860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531-86B4-4E6A-B72C-3386B671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D2F-C543-4CDE-A4D7-E8BAC22C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CC2-1D29-4C63-ACD3-BA6F3319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E1A-05B6-487C-AE7E-844F48E5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A4E-0496-4092-899E-F1D0313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216-C3AC-4B6C-A409-E5300101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558E9-FCF9-4356-91F6-A129B79069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