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09151"/>
        <c:axId val="48455735"/>
      </c:barChart>
      <c:catAx>
        <c:axId val="72909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55735"/>
        <c:crosses val="autoZero"/>
        <c:auto val="1"/>
        <c:lblAlgn val="ctr"/>
        <c:lblOffset val="100"/>
        <c:noMultiLvlLbl val="0"/>
      </c:catAx>
      <c:valAx>
        <c:axId val="48455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9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559-F7CE-47E5-BCAB-2379A5F3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727-0210-4779-9195-0B1D8352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DF9-C512-468A-B285-3993BB46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3F7-B3B1-4DA2-ABA2-E0221882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1E6-A4E5-4915-84D0-8159ADF6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511-6C84-4930-B6EB-5D427CC5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8E4-C12C-4A68-AB8C-1E2C4C60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3B9-3BFE-4A06-A5CF-8C5906CE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FAD-6253-40E9-AAFC-D5CD84E2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56C-2119-4A2E-A55C-948F503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7B7-3BC2-4A7B-95BD-E9A611A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189-397B-4F5B-99FC-BC83DEA6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E7DEE-8248-4F03-8DED-B3A1E2DC13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