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80565"/>
        <c:axId val="69660588"/>
      </c:barChart>
      <c:catAx>
        <c:axId val="42480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0588"/>
        <c:crosses val="autoZero"/>
        <c:auto val="1"/>
        <c:lblAlgn val="ctr"/>
        <c:lblOffset val="100"/>
        <c:noMultiLvlLbl val="0"/>
      </c:catAx>
      <c:valAx>
        <c:axId val="69660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0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C8B-0336-42EF-8AE9-9362D944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A3E-0CE9-4B18-A486-36FA5DE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B08-087F-4BAB-8CED-D723DF67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22F-D31D-4D6E-9FB3-6949D730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E8D-CBDA-401B-AAFA-BA94E87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CCA-B795-4C2E-AF27-2FCC3A3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079-2CCC-48BC-BDA0-A08E49C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109-7790-4E90-AE9B-EEA2384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28F-7E5B-419F-9735-4BB2C734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67F-1278-4A69-A312-2BC3C30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FC8-3B4C-4287-8255-DC0DE2A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D3A-53A0-4A89-8223-C6D7C97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F1A7C-ADF1-49A4-B477-426C38397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