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67120"/>
        <c:axId val="17323412"/>
      </c:barChart>
      <c:catAx>
        <c:axId val="55867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23412"/>
        <c:crosses val="autoZero"/>
        <c:auto val="1"/>
        <c:lblAlgn val="ctr"/>
        <c:lblOffset val="100"/>
        <c:noMultiLvlLbl val="0"/>
      </c:catAx>
      <c:valAx>
        <c:axId val="17323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67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E23-41C5-4AC1-9CE2-275B221E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E9B-A07B-486E-8D9A-1794B434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57E-B4D9-4437-AC9F-C6845111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9AB-758B-4FA3-9B7E-78FB7091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1B8-F852-44D4-84B1-EC7C1F71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4E0-D0BF-4248-8D4A-1DC0042D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473-C5F5-4329-A53C-22586EF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857-3E84-4E4C-987E-85FCE04C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941-99FB-44F9-AE07-B5A525F0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EF7-F653-4350-8CA8-EED511E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68D-9BA5-4C9F-8A06-ED0C1A50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004-C50B-4D5E-B504-C98905F9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70284-D577-4405-845F-13531A03CD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