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92388"/>
        <c:axId val="91141882"/>
      </c:barChart>
      <c:catAx>
        <c:axId val="75592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41882"/>
        <c:crosses val="autoZero"/>
        <c:auto val="1"/>
        <c:lblAlgn val="ctr"/>
        <c:lblOffset val="100"/>
        <c:noMultiLvlLbl val="0"/>
      </c:catAx>
      <c:valAx>
        <c:axId val="91141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92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471-CAB9-47CA-9A0A-1E83FA97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9C5-7559-4120-99BB-3FEAFC70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4A0-B0A9-40F7-A33F-E1394036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5DB-97BB-4C08-BEA8-8D00AB02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10A-EF5A-4003-B06C-40AF74A2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C95-06DB-434A-9CF0-41243B1B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96B-51C7-492A-8B25-B7157057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1DD-1DCD-418C-9D56-7A4DDCFC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3A5-01FF-448F-BDDC-69A20D44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359-3CF3-4E66-B7E7-A92D9722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DEA-10D0-45B0-8717-4BE1699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B11-4884-432E-B857-55979D7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4090D-8678-4A18-87F3-950B3AA9ED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