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11003"/>
        <c:axId val="20488874"/>
      </c:barChart>
      <c:catAx>
        <c:axId val="21511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88874"/>
        <c:crosses val="autoZero"/>
        <c:auto val="1"/>
        <c:lblAlgn val="ctr"/>
        <c:lblOffset val="100"/>
        <c:noMultiLvlLbl val="0"/>
      </c:catAx>
      <c:valAx>
        <c:axId val="20488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11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975-8458-44E6-81F5-4F5AEC69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990-4797-41F2-8092-9742B181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7DB-89CC-484B-84DE-8C473B48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C21-7E88-4FC9-B562-FD9EE523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AAE-63DE-4A60-AC0D-1DA5C737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5B0-907A-4262-8A21-AE63682C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439-0C90-49EE-B29F-697F4C2A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25A-EA1D-4405-9A59-D217394E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94C-B62F-4448-9824-0A4362F9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0AD-294A-4DA8-A0A2-FBE125BB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9FF-3786-4A81-A685-0EF4BAB1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CD5-6C21-4F28-B2FD-4801ED97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666EA-0952-472B-B955-FF1E6F6C81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