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32504"/>
        <c:axId val="19579410"/>
      </c:barChart>
      <c:catAx>
        <c:axId val="14432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79410"/>
        <c:crosses val="autoZero"/>
        <c:auto val="1"/>
        <c:lblAlgn val="ctr"/>
        <c:lblOffset val="100"/>
        <c:noMultiLvlLbl val="0"/>
      </c:catAx>
      <c:valAx>
        <c:axId val="19579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32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228-CA20-465E-B6B9-0FA5966E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174-6E3E-47B6-BFD7-2E861A05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E07-13FC-4665-9C8D-8EF0D3C9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A5D-8340-41CA-8BD5-57D766EB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C60-916B-4F73-BCFC-87FF49E1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215-66EB-4D47-BD69-AFAB451E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280-751D-4023-8933-F11FA7E4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618-ADD0-426B-84A0-F6FBB35F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603-DBB5-4667-9BA2-F58DF8CD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6D18-83BB-4F91-9EE6-3F4A44D8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969-6166-4CB3-9E81-AED29EDF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A0F-B324-45E8-8E37-0EEFA67D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5BF88-1F3B-4DB1-9927-5118198B35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