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496769"/>
        <c:axId val="66926775"/>
      </c:barChart>
      <c:catAx>
        <c:axId val="734967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26775"/>
        <c:crosses val="autoZero"/>
        <c:auto val="1"/>
        <c:lblAlgn val="ctr"/>
        <c:lblOffset val="100"/>
        <c:noMultiLvlLbl val="0"/>
      </c:catAx>
      <c:valAx>
        <c:axId val="669267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4967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D6EE-AF78-4C66-A1B7-7B1425DC3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07C1-46E5-4FF2-81C8-73442FD1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3935-AB13-4387-BC44-DE0E8C1F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75B2-6982-428B-8A7B-4493C23E4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77AA-FBE4-41CB-9200-D19B4F38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9EC7-8662-4B67-ACEC-CA43F21E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8FF4-4BCD-43C6-83CE-C34C9976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4CAB-72E4-4CF5-A191-4521378C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E11D-AE8C-4580-A0D0-BB6DFEE8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03BC-8B3C-4A59-8028-03EB52AB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459D-B580-4A2C-A575-89562887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58BA-CC4C-4ED3-8B5F-333F53D3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A1765E-48FA-4E61-A949-753AA67155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