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074067"/>
        <c:axId val="47241269"/>
      </c:barChart>
      <c:catAx>
        <c:axId val="96074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41269"/>
        <c:crosses val="autoZero"/>
        <c:auto val="1"/>
        <c:lblAlgn val="ctr"/>
        <c:lblOffset val="100"/>
        <c:noMultiLvlLbl val="0"/>
      </c:catAx>
      <c:valAx>
        <c:axId val="47241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074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3D5-C1A8-4B0D-BC02-03EA8A5C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5B5-6964-4004-BF0B-69781C38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304-61B6-4E36-9C0A-CFBE1288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1A94-1779-4FC8-8406-7690EF10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0043-476C-4E7F-A7AA-85EDEC63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6FBB-A531-48AD-A84F-8B3EF30E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B23F-7FDD-49E8-B88E-3EDF1D42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ADA-34F7-47B3-86A4-84F8FA89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2F1-EBD0-4AF0-B502-5D9B0164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9C19-FA15-417C-9367-412262A6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065-E3A1-44C6-AE96-F6E84F1E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405-D559-42C9-8466-DEEEA191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34725-D230-4945-9465-82D3351328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