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11014"/>
        <c:axId val="18889910"/>
      </c:barChart>
      <c:catAx>
        <c:axId val="78111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89910"/>
        <c:crosses val="autoZero"/>
        <c:auto val="1"/>
        <c:lblAlgn val="ctr"/>
        <c:lblOffset val="100"/>
        <c:noMultiLvlLbl val="0"/>
      </c:catAx>
      <c:valAx>
        <c:axId val="18889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11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874-7904-4F06-85F4-3E0C3DDC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A37-A66E-4E54-958C-A64CFEE7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159-B6C1-461D-9BB2-A4135958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A1C-B186-4912-BD1E-9104AE9C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FF7-FC00-4DF0-AF30-956351FD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96F-27F4-43AE-9A17-A8BC3799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5D3-E1C5-45D0-840D-95FAB406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52E-7C9C-4605-A9C0-41756F38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8D1-3CB8-436C-8B7F-8C0D68D0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B18-0E64-48E0-8071-1042B589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F86-46A6-4EE7-84DB-868FD8ED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6B8-CCA4-471C-97A7-3351D143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387EE-DE4F-431C-A739-569DA03D19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