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25667"/>
        <c:axId val="15557655"/>
      </c:barChart>
      <c:catAx>
        <c:axId val="2512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57655"/>
        <c:crosses val="autoZero"/>
        <c:auto val="1"/>
        <c:lblAlgn val="ctr"/>
        <c:lblOffset val="100"/>
        <c:noMultiLvlLbl val="0"/>
      </c:catAx>
      <c:valAx>
        <c:axId val="15557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66B-F7BC-46CF-B854-6CBD4CDB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00A-B60C-4DAA-872B-4254A968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66A-B391-4D63-B217-5E848C54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9A9-5CE8-46C8-A450-FEF7EA96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574-64D8-4EE3-BBB4-CB77D0C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7C9-E790-4DC9-B26E-F5CB7D61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7C8-6BB6-48CA-B7B3-B008CFD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D8F-7D1F-4D1D-9D8D-F5155789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490-E96B-4136-802C-07D8558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86F-EA0B-4E8C-ABC5-626DD64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BB5-034D-476B-B732-C337D49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A35-A5C0-4230-A086-8DE7EF6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672E4-30E1-4BB6-AE51-774C50ADD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