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998783"/>
        <c:axId val="95187686"/>
      </c:barChart>
      <c:catAx>
        <c:axId val="379987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87686"/>
        <c:crosses val="autoZero"/>
        <c:auto val="1"/>
        <c:lblAlgn val="ctr"/>
        <c:lblOffset val="100"/>
        <c:noMultiLvlLbl val="0"/>
      </c:catAx>
      <c:valAx>
        <c:axId val="951876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987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0A6C-1516-499F-B87E-D6F057679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46FF-8BD8-495D-ACA0-2AE40EC0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E25C-F6C3-40D4-97C9-8A568F87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744E-B8CD-47EA-898B-77CF176CC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5C39-51B0-45E0-B3C7-5CB6BF26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C6D9-59F9-4984-A280-122FCF70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637D-0420-4EBD-AEAC-EF2A0A36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B4E6-2454-4AAB-8B32-D848D9F6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99F7-C689-48C8-9C76-C31E2179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1462-5198-405A-987F-E4A4CEDD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E2DC-4039-475E-A1D3-EA00CA99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29E7-AC7C-4147-9F22-2090A788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3FF13-BDB2-4EB2-84CE-C7D368108E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