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15304"/>
        <c:axId val="17289889"/>
      </c:barChart>
      <c:catAx>
        <c:axId val="46315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89889"/>
        <c:crosses val="autoZero"/>
        <c:auto val="1"/>
        <c:lblAlgn val="ctr"/>
        <c:lblOffset val="100"/>
        <c:noMultiLvlLbl val="0"/>
      </c:catAx>
      <c:valAx>
        <c:axId val="17289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15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790-6C75-4478-938B-F7A99AF5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CDD-84D3-41D7-A351-D5EF2B53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C09-3B2C-482C-A078-6F8D53E9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8F0-D755-4A9A-B728-38EB46E1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BB7-7F6A-49D6-9355-7D51041C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EB0-8240-46D7-B89D-3EA4890F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163-DE28-4C1A-B21B-CB736764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748-3A4C-4C3F-8101-95A91132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E2A-D1FE-4733-A0CB-32BA2C26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553-2273-4DC4-B87F-5891C4BB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95D-8B6C-43C4-B195-11777298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2B8-A7CD-437C-B55C-8643A424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39CB0-39EB-4290-9268-2D7A2ED465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