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309220"/>
        <c:axId val="29937738"/>
      </c:barChart>
      <c:catAx>
        <c:axId val="46309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37738"/>
        <c:crosses val="autoZero"/>
        <c:auto val="1"/>
        <c:lblAlgn val="ctr"/>
        <c:lblOffset val="100"/>
        <c:noMultiLvlLbl val="0"/>
      </c:catAx>
      <c:valAx>
        <c:axId val="29937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09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CE10-0165-4DD9-8B82-7280E8DA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879-2B22-48A2-A080-9CD4F588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47B0-DBAA-4533-921E-F7FB4066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D0B-43B9-4F5D-B83B-255D8F4D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37D-094E-4CBD-95CD-4BF4CA26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E6B-1B61-4CDF-AF45-C48C01C5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59B-2DA4-4C33-ADA0-9DDF8474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547-3132-413E-A9D0-EABD613B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82F-221C-47C2-9E63-C20D794C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B77-FE21-478B-B838-E0E8ED8B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5304-7C71-488B-BF8A-30916FE8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725-4B82-4B12-AF10-18B85933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1ABF4-BF29-4A67-80DE-C1D54A73D8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