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406935"/>
        <c:axId val="74452731"/>
      </c:barChart>
      <c:catAx>
        <c:axId val="804069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52731"/>
        <c:crosses val="autoZero"/>
        <c:auto val="1"/>
        <c:lblAlgn val="ctr"/>
        <c:lblOffset val="100"/>
        <c:noMultiLvlLbl val="0"/>
      </c:catAx>
      <c:valAx>
        <c:axId val="744527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069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BD59-2159-495C-A989-5E3DDABD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2A21-CC22-4B3B-BA23-7EB2A868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DB95-1A6D-44EE-A1B9-C257D60F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354E-D6B8-4B10-89C0-BBFE8D8D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CE4F-B45B-4309-9F1D-8D034286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E21B-6151-4301-88D6-AEDD6481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5749-E261-4171-B72B-1B2C364F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545C-94ED-42B4-B992-7D411722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31D6-97E5-4627-97E9-62C73381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35E3-98AC-4F84-8A63-F484C999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563D-5146-4E07-870D-356FF0B4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92EC-B6AD-440A-9A6C-B13063C3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7229E-EA5B-41F4-99A7-2C27B08AB8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